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2A505-980A-489A-97B6-2D686C951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CBD30-E5E7-4A0E-B8A7-4211648C9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D55B5-DD71-43EE-B66A-4BFE89545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836F3-8617-46DE-90B8-F264A23AC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DE9BD-339D-493C-AFFA-C365D19E1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E24D9-4C22-4EDA-9E35-7F796CE5B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CC150-CC99-4DE3-A846-D86D93280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67DAA-6B18-4C40-A4AE-05A8DF737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CE5F7-CCD6-42D8-96A7-7C8DBFBDD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7F0A0-22A1-4B09-AB76-1947B55BA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E54CB-30ED-44EA-A8EA-F3366A272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36EDE-F4B5-4EC4-9A79-764CB5BF5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8112-BFD3-4EB0-82B3-A77941635F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office.microsoft.com/r/rlidDRMMoreInfoLicenseReq?clid=1031"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7467840" cy="2210040"/>
          </a:xfrm>
          <a:prstGeom prst="rect">
            <a:avLst/>
          </a:prstGeom>
          <a:solidFill>
            <a:srgbClr val="faf8ed"/>
          </a:solidFill>
          <a:ln w="3240">
            <a:solidFill>
              <a:srgbClr val="c0c0c0"/>
            </a:solidFill>
            <a:miter/>
          </a:ln>
        </p:spPr>
        <p:txBody>
          <a:bodyPr lIns="54864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Die Zugriffsberechtigung für dieses Präsentation ist zurzeit eingeschränkt. Diese Präsentation kann nur mit Microsoft Office 2003 oder einer neueren Version  geöffnet werden. Sie können den Autor der Präsentation darum bitten, Ihnen eine Kopie zuzuleiten, die mit Hilfe des "Rights Management Add-on's" für Internet Explorer gelesen werden kann. Um dem nachstehenden Hyperlink zu folgen, klicken Sie "Bildschirmpräsentation" im Menü "Ansicht".</a:t>
            </a:r>
            <a:endParaRPr b="0" lang="en-US" sz="1400" spc="-1" strike="noStrike">
              <a:solidFill>
                <a:srgbClr val="000000"/>
              </a:solidFill>
              <a:latin typeface="Arial"/>
            </a:endParaRPr>
          </a:p>
        </p:txBody>
      </p:sp>
      <p:pic>
        <p:nvPicPr>
          <p:cNvPr id="42" name="doNotEnter" descr=""/>
          <p:cNvPicPr/>
          <p:nvPr/>
        </p:nvPicPr>
        <p:blipFill>
          <a:blip r:embed="rId1"/>
          <a:stretch/>
        </p:blipFill>
        <p:spPr>
          <a:xfrm>
            <a:off x="314280" y="314280"/>
            <a:ext cx="295200" cy="295200"/>
          </a:xfrm>
          <a:prstGeom prst="rect">
            <a:avLst/>
          </a:prstGeom>
          <a:ln w="0">
            <a:noFill/>
          </a:ln>
        </p:spPr>
      </p:pic>
      <p:sp>
        <p:nvSpPr>
          <p:cNvPr id="43" name=""/>
          <p:cNvSpPr/>
          <p:nvPr/>
        </p:nvSpPr>
        <p:spPr>
          <a:xfrm>
            <a:off x="609480" y="1676520"/>
            <a:ext cx="6934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9999"/>
                </a:solidFill>
                <a:uFillTx/>
                <a:latin typeface="Verdana"/>
                <a:hlinkClick r:id="rId2"/>
              </a:rPr>
              <a:t>Erfahren Sie mehr über Dokumente mit Zugriffseinschränku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18:12:01Z</dcterms:created>
  <dc:creator/>
  <dc:description/>
  <dc:language>en-US</dc:language>
  <cp:lastModifiedBy/>
  <dcterms:modified xsi:type="dcterms:W3CDTF">2003-03-17T22:36:09Z</dcterms:modified>
  <cp:revision>71</cp:revision>
  <dc:subject/>
  <dc:title>Permission to this presentation is  currently restricted. This presentation can  be opened by Microsoft Office 11 Beta  or a viewer. For more information,  go to http://office.microsoft.com/viewer.</dc:title>
</cp:coreProperties>
</file>